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12.jpeg" ContentType="image/jpeg"/>
  <Override PartName="/ppt/media/image9.jpeg" ContentType="image/jpeg"/>
  <Override PartName="/ppt/media/image48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3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167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28.xml.rels" ContentType="application/vnd.openxmlformats-package.relationships+xml"/>
  <Override PartName="/ppt/slides/_rels/slide170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DC62-7564-445C-B2A0-BD874881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09EE-40AD-4AB7-934F-F4438EE1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70B6-B2EE-457D-AE61-3AF89D0F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C101-3845-4013-B3DD-6708ED0F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E8D9-A62A-4429-B002-BBBC7919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B65A-B6BE-4CC9-8F37-CFBBF41D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3BFA-D034-44E9-8455-90D12CD6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D8D5-6513-40BB-AD73-21341F1C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FEA5-CBAC-4E0D-A72A-50F544CA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D0CF-6C6F-4D40-9E83-45863297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CE3B-1354-4C8B-8CC4-6C609EEB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5062-2E3B-42FD-9E4A-A666C60D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3BFD-B09F-4DAA-84CB-1DFD72CD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ED40-5E1A-4ABA-8C90-D4BB03A1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32C6-B9F1-4937-90B5-2FA621BA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BDDE-44CD-49E6-8A51-FC0639F9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4B01-39CC-4FDB-8415-C38B70B4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73E-4D86-4DDA-8602-C4DCCCB0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944-1178-4827-96DE-5CA1953F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F8A-E8EC-4787-BE77-864539AE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C12E-733B-4A3B-A237-DE97A4EE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D988-F9F7-45DC-86E0-8CC9D792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059-B343-4BE5-B4DD-AD3B0FE9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EB7-0958-445E-ADEC-F9DB4335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2311-9A6C-47CE-B515-871FC81DB9D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27FF-9C2B-4E50-BB21-4C773392A5C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large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Weed%20Is%20a%20Flower.htm" TargetMode="External"/><Relationship Id="rId2" Type="http://schemas.openxmlformats.org/officeDocument/2006/relationships/hyperlink" Target="http://www.scottsboro.org/~flewis/SF%20Reading%20Street/spellmaster/Weed%20Is%20a%20Flower/jigword2.html" TargetMode="External"/><Relationship Id="rId3" Type="http://schemas.openxmlformats.org/officeDocument/2006/relationships/hyperlink" Target="http://www.scottsboro.org/~flewis/SF%20Reading%20Street/spellmaster/Weed%20Is%20a%20Flower/matchword2.html" TargetMode="External"/><Relationship Id="rId4" Type="http://schemas.openxmlformats.org/officeDocument/2006/relationships/hyperlink" Target="http://www.scottsboro.org/~flewis/SF%20Reading%20Street/spellmaster/Weed%20Is%20a%20Flower/speedword2.html" TargetMode="External"/><Relationship Id="rId5" Type="http://schemas.openxmlformats.org/officeDocument/2006/relationships/hyperlink" Target="http://www.scottsboro.org/~flewis/SF%20Reading%20Street/spellmaster/Weed%20Is%20a%20Flower/wordsearch2.html" TargetMode="External"/><Relationship Id="rId6" Type="http://schemas.openxmlformats.org/officeDocument/2006/relationships/hyperlink" Target="http://www.scottsboro.org/~flewis/SF%20Reading%20Street/spellmaster/Weed%20Is%20a%20Flower/wordweb.html" TargetMode="External"/><Relationship Id="rId7" Type="http://schemas.openxmlformats.org/officeDocument/2006/relationships/hyperlink" Target="http://www.spellingcity.com/index.php?option=com_spellcity&amp;task=viewList&amp;listId=826016" TargetMode="External"/><Relationship Id="rId8" Type="http://schemas.openxmlformats.org/officeDocument/2006/relationships/hyperlink" Target="http://www.spellingcity.com/index.php?option=com_spellcity&amp;task=viewList&amp;listId=826020" TargetMode="External"/><Relationship Id="rId9" Type="http://schemas.openxmlformats.org/officeDocument/2006/relationships/hyperlink" Target="http://www.scottsboro.org/~flewis/SF%20Reading%20Street/spellmaster/Weed%20Is%20a%20Flower%20Spelling%20Words/speedword2.html" TargetMode="External"/><Relationship Id="rId10" Type="http://schemas.openxmlformats.org/officeDocument/2006/relationships/hyperlink" Target="http://www.scottsboro.org/~flewis/SF%20Reading%20Street/spellmaster/Weed%20Is%20a%20Flower%20Spelling%20Words/wordweb.html" TargetMode="External"/><Relationship Id="rId11" Type="http://schemas.openxmlformats.org/officeDocument/2006/relationships/hyperlink" Target="http://www.quia.com/rr/232059.html" TargetMode="External"/><Relationship Id="rId12" Type="http://schemas.openxmlformats.org/officeDocument/2006/relationships/hyperlink" Target="http://www.spellingcity.com/index.php?option=com_spellcity&amp;Itemid=122&amp;task=viewList&amp;listId=354254" TargetMode="External"/><Relationship Id="rId13" Type="http://schemas.openxmlformats.org/officeDocument/2006/relationships/hyperlink" Target="http://www.scottsboro.org/~flewis/SF%20Reading%20Street/Hot%20Potatoes/Weed_Is_a_Flower.htm" TargetMode="External"/><Relationship Id="rId14" Type="http://schemas.openxmlformats.org/officeDocument/2006/relationships/hyperlink" Target="http://www.scottsboro.org/~flewis/SF%20Reading%20Street/Hot%20Potatoes/Weed_Is_a_Flower.htm" TargetMode="External"/><Relationship Id="rId15" Type="http://schemas.openxmlformats.org/officeDocument/2006/relationships/hyperlink" Target="http://www.spellingcity.com/index.php?option=com_spellcity&amp;task=viewList&amp;listId=826024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owe.lib.wv.us/read01.jpg&amp;imgrefurl=http://lowe.lib.wv.us/childdept.html&amp;usg=__vYxkHByAVwIH8kw_pPQKKnkQvc8=&amp;h=500&amp;w=500&amp;sz=55&amp;hl=EN&amp;start=1&amp;tbnid=cY0U7Js_2GInPM:&amp;tbnh=130&amp;tbnw=130&amp;prev=/images?q=read&amp;gbv=2&amp;ndsp=20&amp;hl=EN&amp;sa=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picture-book.com/files/userimages/264u/gu_thkrthnwtr_plead.jpg&amp;imgrefurl=http://picture-book.com/node/3301&amp;usg=__HmHEI2-dOJ4X6d-y2tHrFz8Mw0E=&amp;h=360&amp;w=360&amp;sz=33&amp;hl=EN&amp;start=1&amp;tbnid=8f5w7XTNvHNIrM:&amp;tbnh=121&amp;tbnw=121&amp;prev=/images?q=plead&amp;gbv=2&amp;hl=E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ojoprint.jp/images/folds/cross-fold.jpg&amp;imgrefurl=http://www.mojoprint.jp/folding.php&amp;usg=__KXkO7B6xp2WCbkthgDWMm-o1-gc=&amp;h=400&amp;w=400&amp;sz=18&amp;hl=EN&amp;start=1&amp;tbnid=xKGXyxJkKShpJM:&amp;tbnh=124&amp;tbnw=124&amp;prev=/images?q=fold&amp;gbv=2&amp;hl=EN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www.usagold.com/images/gold-coins-images.jpeg&amp;imgrefurl=http://www.usagold.com/gold-coins.html&amp;usg=__usmyZntQPl5E_XoXRRa3D2XZJ5Y=&amp;h=300&amp;w=300&amp;sz=49&amp;hl=EN&amp;start=2&amp;tbnid=hmlIpYP-qEvkeM:&amp;tbnh=116&amp;tbnw=116&amp;prev=/images?q=gold&amp;gbv=2&amp;hl=EN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farm3.static.flickr.com/2060/1865482908_20b890274b.jpg&amp;imgrefurl=http://www.flickr.com/photos/batega/1865482908/&amp;usg=__Xc3YexhIzno-OmMmLe1jriAfcus=&amp;h=333&amp;w=500&amp;sz=42&amp;hl=EN&amp;start=2&amp;tbnid=mG5QjkTKMM-95M:&amp;tbnh=87&amp;tbnw=130&amp;prev=/images?q=hold&amp;gbv=2&amp;ndsp=20&amp;hl=EN&amp;sa=N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images.google.com/imgres?imgurl=http://kingsteamrestoration.com/images/mold12.jpg&amp;imgrefurl=http://kingsteamrestoration.com/MOLD__REMEDIATION__MIAMI.HTML&amp;usg=__K4AwzRL-N4TxHJpxH5lChWI-Dz0=&amp;h=360&amp;w=480&amp;sz=24&amp;hl=EN&amp;start=3&amp;tbnid=4ub7I20NerYPfM:&amp;tbnh=97&amp;tbnw=129&amp;prev=/images?q=mold&amp;gbv=2&amp;hl=EN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images.google.com/imgres?imgurl=http://www.socketsite.com/archives/39%2520Chattanooga%2520Sold.jpg&amp;imgrefurl=http://www.socketsite.com/archives/2006/06/&amp;usg=__eu6bvO_X7z2sXJwZdyvMFnc77xA=&amp;h=375&amp;w=499&amp;sz=53&amp;hl=EN&amp;start=7&amp;tbnid=AJEDJ2xfRB8q9M:&amp;tbnh=98&amp;tbnw=130&amp;prev=/images?q=sold&amp;gbv=2&amp;hl=EN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images.google.com/imgres?imgurl=http://internetrealestatesuccess.com/wp-content/uploads/2009/01/momscolding.jpg&amp;imgrefurl=http://internetrealestatesuccess.com/2009/02/10/no-one-likes-being-told-what-to-do/&amp;usg=__-KjGLDuukKwiI72YSkPvi4nxkBE=&amp;h=330&amp;w=480&amp;sz=172&amp;hl=EN&amp;start=22&amp;tbnid=WQ2LW_lr2Z3zoM:&amp;tbnh=89&amp;tbnw=129&amp;prev=/images?q=told&amp;gbv=2&amp;ndsp=20&amp;hl=EN&amp;sa=N&amp;start=20" TargetMode="External"/><Relationship Id="rId12" Type="http://schemas.openxmlformats.org/officeDocument/2006/relationships/image" Target="../media/image13.jpeg"/><Relationship Id="rId13" Type="http://schemas.openxmlformats.org/officeDocument/2006/relationships/hyperlink" Target="http://images.google.com/imgres?imgurl=http://www.und.ac.za/und/ling/camese_scold.gif&amp;imgrefurl=http://www.und.ac.za/und/ling/camese.html&amp;usg=__hk0lvS8QgIAvT5fHaUkiDu6w928=&amp;h=199&amp;w=189&amp;sz=31&amp;hl=EN&amp;start=4&amp;tbnid=f8mJeuPdPfQpmM:&amp;tbnh=104&amp;tbnw=99&amp;prev=/images?q=scold&amp;gbv=2&amp;hl=EN" TargetMode="External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57.xml"/><Relationship Id="rId3" Type="http://schemas.openxmlformats.org/officeDocument/2006/relationships/slide" Target="slide106.xml"/><Relationship Id="rId4" Type="http://schemas.openxmlformats.org/officeDocument/2006/relationships/slide" Target="slide144.xml"/><Relationship Id="rId5" Type="http://schemas.openxmlformats.org/officeDocument/2006/relationships/slide" Target="slide162.xml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irtualmuseum.ca/Exhibitions/ManitobaCrafts/storyofwool/images/artifacts/loom.jpg&amp;imgrefurl=http://www.virtualmuseum.ca/Exhibitions/ManitobaCrafts/storyofwool/artifacts/loom.html&amp;usg=__pZXWx_fXhQDOiJ3su4_fhBjNr7o=&amp;h=300&amp;w=324&amp;sz=15&amp;hl=EN&amp;start=6&amp;tbnid=A2ZXfz5VApBp3M:&amp;tbnh=109&amp;tbnw=118&amp;prev=/images?q=loom&amp;gbv=2&amp;hl=EN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/imgres?imgurl=http://www.gatewaytosedona.com/image/articles/1687/Flowers.jpg&amp;imgrefurl=http://www.gatewaytosedona.com/article/id/1687/page/1&amp;usg=__ivozJyzydoVWvTYg2zbTuzB-GpU=&amp;h=286&amp;w=418&amp;sz=40&amp;hl=EN&amp;start=3&amp;tbnid=z0KtR3eZXUhJ1M:&amp;tbnh=86&amp;tbnw=125&amp;prev=/images?q=flower+bloom&amp;gbv=2&amp;hl=EN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google.com/imgres?imgurl=http://www.tascoenterprises.com/photos/YardCornBroom.jpg&amp;imgrefurl=http://tascoenterprises.com/product.asp?catalogID=129&amp;typeID=237&amp;usg=__XTZZ3h_C0QrFCjoowggeiHLnJAw=&amp;h=1696&amp;w=1500&amp;sz=275&amp;hl=EN&amp;start=45&amp;tbnid=e9LHInwfVUuUpM:&amp;tbnh=150&amp;tbnw=133&amp;prev=/images?q=broom&amp;gbv=2&amp;ndsp=20&amp;hl=EN&amp;sa=N&amp;start=40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s.google.com/imgres?imgurl=http://i20.photobucket.com/albums/b238/hawk213/gloom.jpg&amp;imgrefurl=http://www.myspace.com/kolumkilli&amp;usg=__ga9SAXWzqX6wipoQ0VJkkh0QJQQ=&amp;h=300&amp;w=500&amp;sz=26&amp;hl=EN&amp;start=13&amp;tbnid=bEMGc8cXx1BrdM:&amp;tbnh=78&amp;tbnw=130&amp;prev=/images?q=gloom&amp;gbv=2&amp;hl=EN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images.google.com/imgres?imgurl=http://www.bridalxpress.com/catalog/32318-air-force-cake-topper.jpg&amp;imgrefurl=http://www.bridalxpress.com/servlet/the-262/air-force-cake-top/Detail&amp;usg=__onGEgrzPpRU98WE-fgiaCEX9yqU=&amp;h=400&amp;w=400&amp;sz=82&amp;hl=EN&amp;start=1&amp;tbnid=Zmtj7SRTabdJYM:&amp;tbnh=124&amp;tbnw=124&amp;prev=/images?q=bride+and++groomcaketopper%255C&amp;gbv=2&amp;hl=EN" TargetMode="External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93.xml"/><Relationship Id="rId2" Type="http://schemas.openxmlformats.org/officeDocument/2006/relationships/slide" Target="slide94.xml"/><Relationship Id="rId3" Type="http://schemas.openxmlformats.org/officeDocument/2006/relationships/slide" Target="slide95.xml"/><Relationship Id="rId4" Type="http://schemas.openxmlformats.org/officeDocument/2006/relationships/slide" Target="slide96.xml"/><Relationship Id="rId5" Type="http://schemas.openxmlformats.org/officeDocument/2006/relationships/slide" Target="slide96.xml"/><Relationship Id="rId6" Type="http://schemas.openxmlformats.org/officeDocument/2006/relationships/slide" Target="slide96.xml"/><Relationship Id="rId7" Type="http://schemas.openxmlformats.org/officeDocument/2006/relationships/slide" Target="slide96.xml"/><Relationship Id="rId8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hyperlink" Target="http://images.google.com/imgres?imgurl=http://image04.webshots.com/4/0/28/62/57302862krmJSq_fs.jpg&amp;imgrefurl=http://travel.webshots.com/photo/1057302862027581078krmJSq&amp;usg=__EWG0vw-TnLftO_n8b85vgSAk5mQ=&amp;h=788&amp;w=1181&amp;sz=133&amp;hl=EN&amp;start=18&amp;tbnid=faeben_ekGEIcM:&amp;tbnh=100&amp;tbnw=150&amp;prev=/images?q=auburn+university&amp;gbv=2&amp;hl=EN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images.google.com/imgres?imgurl=http://www.schooldesigns.com/catalog/images/608asu2021.jpg&amp;imgrefurl=http://www.schooldesigns.com/ResultsDetail.asp?id=2464&amp;usg=__XEM55Gk2I6zQOmczx2Ia1brN3cg=&amp;h=330&amp;w=450&amp;sz=49&amp;hl=EN&amp;start=4&amp;tbnid=Ri3QJtsMt7j7vM:&amp;tbnh=93&amp;tbnw=127&amp;prev=/images?q=university+of+alabama&amp;gbv=2&amp;hl=EN" TargetMode="External"/><Relationship Id="rId5" Type="http://schemas.openxmlformats.org/officeDocument/2006/relationships/image" Target="../media/image23.jpeg"/><Relationship Id="rId6" Type="http://schemas.openxmlformats.org/officeDocument/2006/relationships/hyperlink" Target="http://images.google.com/imgres?imgurl=http://www.stateuniversity.com/assets/logo/image/596/large/health_sciences_complex.gif&amp;imgrefurl=http://www.stateuniversity.com/universities/AL/Northeast_Alabama_Community_College.html&amp;usg=__6HjEbk11ZkS7eCiBNDtWkqKq9ns=&amp;h=300&amp;w=500&amp;sz=63&amp;hl=EN&amp;start=5&amp;tbnid=8gaNhJH0z90gqM:&amp;tbnh=78&amp;tbnw=130&amp;prev=/images?q=northeast+alabama+commity+college&amp;gbv=2&amp;hl=EN" TargetMode="External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hyperlink" Target="http://images.google.com/imgres?imgurl=http://www.state.sd.us/DOA/images/SD-Harvest.jpg&amp;imgrefurl=http://www.state.sd.us/DOA/&amp;usg=__D_HbDJscsHZMjeOHSAY3xNtgh90=&amp;h=957&amp;w=1404&amp;sz=154&amp;hl=EN&amp;start=3&amp;tbnid=yxY7EiDUHjTP5M:&amp;tbnh=102&amp;tbnw=150&amp;prev=/images?q=agriculture&amp;gbv=2&amp;hl=EN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images.google.com/imgres?imgurl=http://thelivingmurray.mdbc.gov.au/__data/page/1328/JB_agriculture_berri.jpg&amp;imgrefurl=http://thelivingmurray.mdbc.gov.au/?p=1328&amp;usg=__1VRd50e0GXm6fcaiTX1AHZ0qddM=&amp;h=848&amp;w=1272&amp;sz=377&amp;hl=EN&amp;start=11&amp;tbnid=LVsjQsz277ksVM:&amp;tbnh=100&amp;tbnw=150&amp;prev=/images?q=agriculture&amp;gbv=2&amp;hl=EN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images.google.com/imgres?imgurl=http://www.agworkers.com/images/agriculture.jpg&amp;imgrefurl=http://www.agworkers.com/&amp;usg=__2yxcI6zlCSJepQ3Dtp0DU03lxcM=&amp;h=425&amp;w=902&amp;sz=297&amp;hl=EN&amp;start=25&amp;tbnid=af_sEwWuxilHaM:&amp;tbnh=69&amp;tbnw=146&amp;prev=/images?q=agriculture&amp;gbv=2&amp;ndsp=20&amp;hl=EN&amp;sa=N&amp;start=20" TargetMode="External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hyperlink" Target="http://images.google.com/imgres?imgurl=http://www.ucm.es/info/gsolfa/imagenes/orellana_Organic_and_Inorganic_Synthesis_Laboratory.jpg&amp;imgrefurl=http://www.ucm.es/info/gsolfa/Our_laboratories.htm&amp;usg=__pUSipdTqx_39i9WQaL53TeZEH38=&amp;h=960&amp;w=1280&amp;sz=64&amp;hl=EN&amp;start=7&amp;tbnid=ZWjNIq-Qc_R1LM:&amp;tbnh=113&amp;tbnw=150&amp;prev=/images?q=laboratory&amp;gbv=2&amp;hl=EN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images.google.com/imgres?imgurl=http://www.bmvbs.de/Bild/original_971849/Research-in-a-genetic-engineering-laboratory.jpg&amp;imgrefurl=http://www.bmvbs.de/en/Federal-Government-Commissione/Economy-and-investments-,2575.971853/Investing-in-the-future-of-res.htm&amp;usg=__BTLAR8ROFEYtYlsyuTs3qqx8MuA=&amp;h=333&amp;w=450&amp;sz=31&amp;hl=EN&amp;start=13&amp;tbnid=TRuTsaF8LWRTsM:&amp;tbnh=94&amp;tbnw=127&amp;prev=/images?q=laboratory&amp;gbv=2&amp;hl=EN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images.google.com/imgres?imgurl=http://corrosion.ksc.nasa.gov/images/KSC-Corrosion-Laboratory.jpg&amp;imgrefurl=http://corrosion.ksc.nasa.gov/ksclab.htm&amp;usg=__7x6EPDJR-MryiuJGjt9ayKnaDeQ=&amp;h=342&amp;w=400&amp;sz=30&amp;hl=EN&amp;start=24&amp;tbnid=41q8Ru8mOwyKNM:&amp;tbnh=106&amp;tbnw=124&amp;prev=/images?q=laboratory&amp;gbv=2&amp;ndsp=20&amp;hl=EN&amp;sa=N&amp;start=20" TargetMode="External"/><Relationship Id="rId7" Type="http://schemas.openxmlformats.org/officeDocument/2006/relationships/image" Target="../media/image30.jpeg"/><Relationship Id="rId8" Type="http://schemas.openxmlformats.org/officeDocument/2006/relationships/hyperlink" Target="http://images.google.com/imgres?imgurl=http://202.38.70.95/ocw/NR/rdonlyres/Mechanical-Engineering/2-672Spring2004/30BE4FB9-BC8A-47D8-92D7-83E7DBCCF352/0/chp_pipe_clear.jpg&amp;imgrefurl=http://202.38.70.95/ocw/OcwWeb/Mechanical-Engineering/2-672Spring2004/CourseHome/index.htm&amp;usg=__gVbQpcgpUgVxFOBJ47plndnq3AE=&amp;h=350&amp;w=399&amp;sz=67&amp;hl=EN&amp;start=34&amp;tbnid=sEQpZ01fKtn_pM:&amp;tbnh=109&amp;tbnw=124&amp;prev=/images?q=laboratory&amp;gbv=2&amp;ndsp=20&amp;hl=EN&amp;sa=N&amp;start=20" TargetMode="External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hyperlink" Target="http://images.google.com/imgres?imgurl=http://worldwatts.com/gael/greenhouse_2.jpg&amp;imgrefurl=http://worldwatts.com/gadgets/Greenhouse%2520plans/&amp;usg=__GriP6ojDp56UX7rDmXOiYDXljUw=&amp;h=500&amp;w=500&amp;sz=77&amp;hl=EN&amp;start=1&amp;tbnid=JoAWa3-YkRDfYM:&amp;tbnh=130&amp;tbnw=130&amp;prev=/images?q=greenhouse&amp;gbv=2&amp;hl=EN" TargetMode="External"/><Relationship Id="rId3" Type="http://schemas.openxmlformats.org/officeDocument/2006/relationships/image" Target="../media/image32.jpeg"/><Relationship Id="rId4" Type="http://schemas.openxmlformats.org/officeDocument/2006/relationships/hyperlink" Target="http://images.google.com/imgres?imgurl=http://newfarm.osu.edu/crops/images/greenhouse.jpg&amp;imgrefurl=http://newfarm.osu.edu/crops/greenhouse.html&amp;usg=__-86IHzcHy9zJoG6BDIpNoG5ZkC0=&amp;h=375&amp;w=300&amp;sz=17&amp;hl=EN&amp;start=3&amp;tbnid=Qn8sM5wIURyiWM:&amp;tbnh=122&amp;tbnw=98&amp;prev=/images?q=greenhouse&amp;gbv=2&amp;hl=EN" TargetMode="External"/><Relationship Id="rId5" Type="http://schemas.openxmlformats.org/officeDocument/2006/relationships/image" Target="../media/image33.jpeg"/><Relationship Id="rId6" Type="http://schemas.openxmlformats.org/officeDocument/2006/relationships/hyperlink" Target="http://images.google.com/imgres?imgurl=http://www.solar-components.com/conservatory_greenhouse_big.jpeg&amp;imgrefurl=http://www.solar-components.com/gh_conservatory.htm&amp;usg=__m6JFKdtrSyi3z554NM3dnX3NY8g=&amp;h=301&amp;w=400&amp;sz=74&amp;hl=EN&amp;start=8&amp;tbnid=_tnv-Lkuo4kKhM:&amp;tbnh=93&amp;tbnw=124&amp;prev=/images?q=greenhouse&amp;gbv=2&amp;hl=EN" TargetMode="External"/><Relationship Id="rId7" Type="http://schemas.openxmlformats.org/officeDocument/2006/relationships/image" Target="../media/image34.jpeg"/><Relationship Id="rId8" Type="http://schemas.openxmlformats.org/officeDocument/2006/relationships/hyperlink" Target="http://images.google.com/imgres?imgurl=http://www.solar-components.com/oasis_greenhouse.jpg&amp;imgrefurl=http://www.solar-components.com/gh_oasis.htm&amp;usg=__l_G-Tuhp7DM7RkOynRgetj4gjJg=&amp;h=376&amp;w=400&amp;sz=74&amp;hl=EN&amp;start=18&amp;tbnid=zz07K5I39nKRUM:&amp;tbnh=117&amp;tbnw=124&amp;prev=/images?q=greenhouse&amp;gbv=2&amp;hl=EN" TargetMode="External"/><Relationship Id="rId9" Type="http://schemas.openxmlformats.org/officeDocument/2006/relationships/image" Target="../media/image35.jpeg"/><Relationship Id="rId10" Type="http://schemas.openxmlformats.org/officeDocument/2006/relationships/hyperlink" Target="http://images.google.com/imgres?imgurl=https://www2.lsmsecure.com/itd/shop/images/T/HydroGreenhouse2.jpg&amp;imgrefurl=https://www2.lsmsecure.com/itd/shop/16354633/home.php?printable=Y&amp;cat=748&amp;sort=orderby&amp;sort_direction=1&amp;usg=__sIKWQ2ZzFbw0BJDdBQcGNrG5XyM=&amp;h=325&amp;w=333&amp;sz=22&amp;hl=EN&amp;start=21&amp;tbnid=rfVSBamjsizlfM:&amp;tbnh=116&amp;tbnw=119&amp;prev=/images?q=greenhouse&amp;gbv=2&amp;ndsp=20&amp;hl=EN&amp;sa=N&amp;start=20" TargetMode="External"/><Relationship Id="rId11" Type="http://schemas.openxmlformats.org/officeDocument/2006/relationships/image" Target="../media/image36.jpeg"/><Relationship Id="rId12" Type="http://schemas.openxmlformats.org/officeDocument/2006/relationships/hyperlink" Target="http://images.google.com/imgres?imgurl=http://www.niagarafrontier.com/image/greenhouse2.jpg&amp;imgrefurl=http://www.niagarafrontier.com/greenhouse.html&amp;usg=__4OMBHsiyp0LoDKtl0d5BG1LnA9w=&amp;h=650&amp;w=432&amp;sz=134&amp;hl=EN&amp;start=34&amp;tbnid=Y9k4EoVgGcXGbM:&amp;tbnh=137&amp;tbnw=91&amp;prev=/images?q=greenhouse&amp;gbv=2&amp;ndsp=20&amp;hl=EN&amp;sa=N&amp;start=20" TargetMode="External"/><Relationship Id="rId13" Type="http://schemas.openxmlformats.org/officeDocument/2006/relationships/image" Target="../media/image37.jpeg"/><Relationship Id="rId1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here do creative ideas come from?</a:t>
            </a:r>
            <a:r>
              <a:rPr b="0" lang="en-US" sz="48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en-US" sz="2400" spc="-1" strike="noStrike">
                <a:solidFill>
                  <a:srgbClr val="fac164"/>
                </a:solidFill>
                <a:latin typeface="Times New Roman"/>
              </a:rPr>
              <a:t>Click to listen to story.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21016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18" descr="Weed Is a Flow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352680" y="2666880"/>
            <a:ext cx="2760840" cy="36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</a:rPr>
              <a:t>Comparative ending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</a:rPr>
              <a:t>Cause/effe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</a:rPr>
              <a:t>Verbs: 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61048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verb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can tell what someone or something is do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 verb can show something that happens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now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, in the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pa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, or in the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futu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erbs change when we talk about one or more than one person or thing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y also change when we talk about the past or presen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61048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ich verbs talk about the past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ich verbs are used with one or more people or thing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ich verbs are used with 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am, is, are, was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, and 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were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do not show action.  They show what someone or something is or was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se verbs are forms of the verb 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to be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am, is,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and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 are,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ell about now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was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and</a:t>
            </a:r>
            <a:r>
              <a:rPr b="1" lang="en-US" sz="2800" spc="-1" strike="noStrike">
                <a:solidFill>
                  <a:srgbClr val="460acc"/>
                </a:solidFill>
                <a:latin typeface="Verdana"/>
              </a:rPr>
              <a:t> were,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ell about the pas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A seed is smal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is the verb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The seeds ____ smal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I ____ smal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These trees were once just seed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The tree ___ once just a se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igh-Frequency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onitor &amp; Fix Up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morrow you will hear a read aloud that tells more about where ideas come from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6160" y="7621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Tuesda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523880" y="2743200"/>
          <a:ext cx="6934320" cy="320040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ite about an idea you ha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nd tell how you thought of it.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6160" y="7621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Wednes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762120" y="2133720"/>
          <a:ext cx="7772400" cy="379728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381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oymakers make better toys every year.  Some are faster and some are louder. Some are even smarter! How would you mak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your favorite toy better?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6160" y="7621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Wednes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838080" y="2133720"/>
          <a:ext cx="7696440" cy="3797280"/>
        </p:xfrm>
        <a:graphic>
          <a:graphicData uri="http://schemas.openxmlformats.org/drawingml/2006/table">
            <a:tbl>
              <a:tblPr/>
              <a:tblGrid>
                <a:gridCol w="7696440"/>
              </a:tblGrid>
              <a:tr h="381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oymakers make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ette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toys every year.  Some are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faste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and some are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loude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. Some are even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smarte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! How would you mak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your favorite toy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ette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?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ong i: i, ie, igh, 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omparative Ending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igh-Frequency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ynonym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erbs: 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82320" y="1028520"/>
            <a:ext cx="734076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  <a:ea typeface="Times New Roman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5b5249"/>
                          </a:solidFill>
                          <a:latin typeface="Verdana"/>
                          <a:ea typeface="Times New Roman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82320" y="1028520"/>
            <a:ext cx="734076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  <a:ea typeface="Times New Roman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5b5249"/>
                          </a:solidFill>
                          <a:latin typeface="Verdana"/>
                          <a:ea typeface="Times New Roman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scientis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ci – en – tist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scientis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is a person who is trained in science and is an expert in i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Scientist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have discovered many things about the world we live i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unusu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un – u – su – al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omething that is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unusua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is not usual or not ordinar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children made a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unusua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barbecue sauce when they were trying to act like scientis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Verdana"/>
                <a:ea typeface="Verdana"/>
              </a:rPr>
              <a:t>Read-Aloud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c164"/>
                </a:solidFill>
                <a:latin typeface="Verdana"/>
                <a:ea typeface="Verdana"/>
              </a:rPr>
              <a:t>Teddy’s Bear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exce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ex – cel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When you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exce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at something, you’re better than most people at i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Kayla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excel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at mat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Inventors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exce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in creative think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r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r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r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ython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Long i: </a:t>
            </a:r>
            <a:r>
              <a:rPr b="1" i="1" lang="en-US" sz="4000" spc="-1" strike="noStrike">
                <a:solidFill>
                  <a:srgbClr val="2a3d7a"/>
                </a:solidFill>
                <a:latin typeface="Verdana"/>
              </a:rPr>
              <a:t>i, ie, igh, y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pie, might, sigh, fly, tiger, mild, lie, by, high, cyclone, wider, find, bright, die, python, t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990720" y="3200400"/>
          <a:ext cx="7772400" cy="29178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y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g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l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id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d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i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igh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right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l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yclon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ython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proc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proc – es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When you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proces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something, you prepare it by following a set of step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My raincoat has bee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processe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to make it waterproof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People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proces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peanuts into many things, including shaving cream and shampo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High-Frequency Words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2992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rhymes with flow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hou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rhymes with hone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mone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I wasn’t sure how to answer the ____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ques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I was the ____ one who raise my han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onl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High-Frequency Words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2992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My mom ____ school for twelve year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taugh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My pants and shirts are too small so I will have to buy some new ____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cloth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Mr. Johnson is our next door ____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ac164"/>
                </a:solidFill>
                <a:latin typeface="Verdana"/>
              </a:rPr>
              <a:t>neighb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838080" y="1828800"/>
          <a:ext cx="2514600" cy="35812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3657600" y="1523880"/>
          <a:ext cx="5334120" cy="46148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- soak 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838080" y="2362320"/>
          <a:ext cx="7696440" cy="2039760"/>
        </p:xfrm>
        <a:graphic>
          <a:graphicData uri="http://schemas.openxmlformats.org/drawingml/2006/table">
            <a:tbl>
              <a:tblPr/>
              <a:tblGrid>
                <a:gridCol w="2565360"/>
                <a:gridCol w="2565720"/>
                <a:gridCol w="256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Consonant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Digraph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en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c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ak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cr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ak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- soak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405" name="Picture 2" descr="http://tbn3.google.com/images?q=tbn:Vn3_HHku2oELzM:http://www.ivymoon.co.uk/products/images/cloaks/hermit_cloak.jpg"/>
          <p:cNvPicPr/>
          <p:nvPr/>
        </p:nvPicPr>
        <p:blipFill>
          <a:blip r:embed="rId1"/>
          <a:stretch/>
        </p:blipFill>
        <p:spPr>
          <a:xfrm>
            <a:off x="2057400" y="2666880"/>
            <a:ext cx="1371600" cy="232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tbn2.google.com/images?q=tbn:EO8KE9C0BTDOeM:http://www.frogsonice.com/froggy/images/trotrfrg.jpg"/>
          <p:cNvPicPr/>
          <p:nvPr/>
        </p:nvPicPr>
        <p:blipFill>
          <a:blip r:embed="rId2"/>
          <a:stretch/>
        </p:blipFill>
        <p:spPr>
          <a:xfrm>
            <a:off x="4572000" y="2895480"/>
            <a:ext cx="1981080" cy="1892520"/>
          </a:xfrm>
          <a:prstGeom prst="rect">
            <a:avLst/>
          </a:prstGeom>
          <a:ln w="0">
            <a:noFill/>
          </a:ln>
        </p:spPr>
      </p:pic>
      <p:sp>
        <p:nvSpPr>
          <p:cNvPr id="407" name="TextBox 6"/>
          <p:cNvSpPr/>
          <p:nvPr/>
        </p:nvSpPr>
        <p:spPr>
          <a:xfrm>
            <a:off x="2239560" y="4952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cloa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8" name="TextBox 7"/>
          <p:cNvSpPr/>
          <p:nvPr/>
        </p:nvSpPr>
        <p:spPr>
          <a:xfrm>
            <a:off x="4906800" y="480060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croa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colder and cold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hotter, hot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sadder and sadd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happier, happi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bigger and bigg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smaller, smallest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later and la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sooner, soon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more crooked and most crook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straight, straigh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pposite of thinner and thinn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fatter, fat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Synony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oses and Susan Carver thought that George was an unusual child.  He was also described as small and wea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en authors write, they choose certain words but other words with the same or similar meanings could also be us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Synony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ords that have similar meanings are called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ynonym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George remained </a:t>
            </a:r>
            <a:r>
              <a:rPr b="0" i="1" lang="en-US" sz="3200" spc="-1" strike="noStrike">
                <a:solidFill>
                  <a:srgbClr val="2ebe35"/>
                </a:solidFill>
                <a:latin typeface="Verdana"/>
              </a:rPr>
              <a:t>small</a:t>
            </a: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0" i="1" lang="en-US" sz="3200" spc="-1" strike="noStrike">
                <a:solidFill>
                  <a:srgbClr val="2ebe35"/>
                </a:solidFill>
                <a:latin typeface="Verdana"/>
              </a:rPr>
              <a:t>weak</a:t>
            </a: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But as he grew, they saw he was an </a:t>
            </a:r>
            <a:r>
              <a:rPr b="0" i="1" lang="en-US" sz="3200" spc="-1" strike="noStrike">
                <a:solidFill>
                  <a:srgbClr val="2ebe35"/>
                </a:solidFill>
                <a:latin typeface="Verdana"/>
              </a:rPr>
              <a:t>unusual</a:t>
            </a: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 chil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Find a word to use in place of the underlined word without changing the meaning of the sente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</a:rPr>
              <a:t>i am happyest when I are busy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c164"/>
                </a:solidFill>
                <a:latin typeface="Verdana"/>
              </a:rPr>
              <a:t>I am happiest when I am busy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</a:rPr>
              <a:t>then I finich my work soonner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c164"/>
                </a:solidFill>
                <a:latin typeface="Verdana"/>
              </a:rPr>
              <a:t>Then I finish my work sooner.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research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re – search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Research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means a very careful investigation or hunting for fac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I did a lot of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research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to make sure the facts in my report about weather were corr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People found many ways to use peanuts through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research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 forms of </a:t>
            </a:r>
            <a:r>
              <a:rPr b="0" lang="en-US" sz="2800" spc="-1" strike="noStrike">
                <a:solidFill>
                  <a:srgbClr val="2ebe35"/>
                </a:solidFill>
                <a:latin typeface="Verdana"/>
              </a:rPr>
              <a:t>to be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ell whether it is about one or more than one and whether it takes place in the past or the presen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Dr. Carver </a:t>
            </a:r>
            <a:r>
              <a:rPr b="0" lang="en-US" sz="2800" spc="-1" strike="noStrike">
                <a:solidFill>
                  <a:srgbClr val="2ebe35"/>
                </a:solidFill>
                <a:latin typeface="Verdana"/>
              </a:rPr>
              <a:t>was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a scientis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Some people he </a:t>
            </a:r>
            <a:r>
              <a:rPr b="0" lang="en-US" sz="2800" spc="-1" strike="noStrike">
                <a:solidFill>
                  <a:srgbClr val="2ebe35"/>
                </a:solidFill>
                <a:latin typeface="Verdana"/>
              </a:rPr>
              <a:t>helped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were farmer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oday, many people </a:t>
            </a:r>
            <a:r>
              <a:rPr b="0" lang="en-US" sz="2800" spc="-1" strike="noStrike">
                <a:solidFill>
                  <a:srgbClr val="2ebe35"/>
                </a:solidFill>
                <a:latin typeface="Verdana"/>
              </a:rPr>
              <a:t>are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farmer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I </a:t>
            </a:r>
            <a:r>
              <a:rPr b="0" lang="en-US" sz="2800" spc="-1" strike="noStrike">
                <a:solidFill>
                  <a:srgbClr val="2ebe35"/>
                </a:solidFill>
                <a:latin typeface="Verdana"/>
              </a:rPr>
              <a:t>am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a farmer to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am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 sing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Nat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wa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 sing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y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we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sing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ause and Effe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morrow you will read about how to find information on the intern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6160" y="7621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Wednesda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371600" y="28195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Use at least one pair of synonyms in a description of George Washington Carver.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2a3d7a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762120" y="2286000"/>
          <a:ext cx="8153280" cy="4187880"/>
        </p:xfrm>
        <a:graphic>
          <a:graphicData uri="http://schemas.openxmlformats.org/drawingml/2006/table">
            <a:tbl>
              <a:tblPr/>
              <a:tblGrid>
                <a:gridCol w="81532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oday we are going to read about an amazing kind of technology,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he Internet. Maria wants to search the net for information. Have you ever searched a www. address before? What do you know about the Internet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2a3d7a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762120" y="2286000"/>
          <a:ext cx="8153280" cy="4187880"/>
        </p:xfrm>
        <a:graphic>
          <a:graphicData uri="http://schemas.openxmlformats.org/drawingml/2006/table">
            <a:tbl>
              <a:tblPr/>
              <a:tblGrid>
                <a:gridCol w="8153280"/>
              </a:tblGrid>
              <a:tr h="41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oday we are going to read about an amazing kind of technology,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he Internet. Maria wants to search the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net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for information. Have you ever searched a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www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. address before? What do you know about the Internet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omparative Ending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erbs:  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ummarize inform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6160" y="6858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066680" y="2362320"/>
          <a:ext cx="3200400" cy="30477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30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leg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gricultur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borator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greenhous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4648320" y="1828800"/>
          <a:ext cx="3581280" cy="461484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roces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esearc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pportunit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ccomplis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rigin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cienti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unusu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124080" y="167652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lothe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nl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ne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augh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neighbo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y had a backyard birthday party for their oldest daught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att fished alone by the riverbank for half a d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e caught the biggest, fattest catfish ever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o’s the youngest baseball player on the team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320040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Verdana"/>
                <a:ea typeface="Verdana"/>
              </a:rPr>
              <a:t>Click to listen to a song about what you can make out of a peanut.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Picture 2" descr="What Can a Peanut Be?"/>
          <p:cNvPicPr/>
          <p:nvPr/>
        </p:nvPicPr>
        <p:blipFill>
          <a:blip r:embed="rId1"/>
          <a:srcRect l="0" t="0" r="0" b="7060"/>
          <a:stretch/>
        </p:blipFill>
        <p:spPr>
          <a:xfrm>
            <a:off x="4267080" y="914400"/>
            <a:ext cx="4343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e cannot buy the larger toybox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e played basketball in the drivew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scored many poin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838080" y="1828800"/>
          <a:ext cx="2514600" cy="35812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3657600" y="1523880"/>
          <a:ext cx="5334120" cy="46148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wrote </a:t>
            </a:r>
            <a:r>
              <a:rPr b="1" lang="en-US" sz="1400" spc="-1" strike="noStrike">
                <a:solidFill>
                  <a:srgbClr val="2a3d7a"/>
                </a:solidFill>
                <a:latin typeface="Verdana"/>
              </a:rPr>
              <a:t>(online dictionary)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838080" y="2362320"/>
          <a:ext cx="7696440" cy="2474640"/>
        </p:xfrm>
        <a:graphic>
          <a:graphicData uri="http://schemas.openxmlformats.org/drawingml/2006/table">
            <a:tbl>
              <a:tblPr/>
              <a:tblGrid>
                <a:gridCol w="2565360"/>
                <a:gridCol w="2565720"/>
                <a:gridCol w="256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Consonant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Digraph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en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n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t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t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v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t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sm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t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wrot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447" name="Picture 2" descr="http://tbn2.google.com/images?q=tbn:M-3KctuRGlA5XM:http://www.happynote.com/music/pictures/cpt-treble-17notes-500x375.gif"/>
          <p:cNvPicPr/>
          <p:nvPr/>
        </p:nvPicPr>
        <p:blipFill>
          <a:blip r:embed="rId1"/>
          <a:stretch/>
        </p:blipFill>
        <p:spPr>
          <a:xfrm>
            <a:off x="6172200" y="2438280"/>
            <a:ext cx="1717560" cy="12956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http://tbn3.google.com/images?q=tbn:2JAnAA4CyJ44DM:http://upload.wikimedia.org/wikipedia/en/thumb/0/0b/WebNoteRegularNote.jpg/400px-WebNoteRegularNote.jpg"/>
          <p:cNvPicPr/>
          <p:nvPr/>
        </p:nvPicPr>
        <p:blipFill>
          <a:blip r:embed="rId2"/>
          <a:stretch/>
        </p:blipFill>
        <p:spPr>
          <a:xfrm>
            <a:off x="3581280" y="2438280"/>
            <a:ext cx="1544760" cy="12956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http://tbn3.google.com/images?q=tbn:ssH_hiVptFDdfM:http://www.istockphoto.com/file_thumbview_approve/3284516/2/istockphoto_3284516-note-paper.jpg"/>
          <p:cNvPicPr/>
          <p:nvPr/>
        </p:nvPicPr>
        <p:blipFill>
          <a:blip r:embed="rId3"/>
          <a:stretch/>
        </p:blipFill>
        <p:spPr>
          <a:xfrm>
            <a:off x="1371600" y="2362320"/>
            <a:ext cx="1371600" cy="1260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http://tbn2.google.com/images?q=tbn:kekmgleQwVUgrM:http://www.iheartluxe.com/wp-content/uploads/2008/06/ginette-niki-tote.jpg"/>
          <p:cNvPicPr/>
          <p:nvPr/>
        </p:nvPicPr>
        <p:blipFill>
          <a:blip r:embed="rId4"/>
          <a:stretch/>
        </p:blipFill>
        <p:spPr>
          <a:xfrm>
            <a:off x="762120" y="4267080"/>
            <a:ext cx="1498320" cy="1447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http://tbn3.google.com/images?q=tbn:9q_7OzqhOCoOHM:http://www.onzone.ca/images/timeline/1888_vote.jpg"/>
          <p:cNvPicPr/>
          <p:nvPr/>
        </p:nvPicPr>
        <p:blipFill>
          <a:blip r:embed="rId5"/>
          <a:stretch/>
        </p:blipFill>
        <p:spPr>
          <a:xfrm>
            <a:off x="4572000" y="4724280"/>
            <a:ext cx="1447920" cy="10861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2" descr="http://tbn2.google.com/images?q=tbn:glu6IA19vv-K-M:http://www.acu.edu/academics/library/images/vote2.jpg"/>
          <p:cNvPicPr/>
          <p:nvPr/>
        </p:nvPicPr>
        <p:blipFill>
          <a:blip r:embed="rId6"/>
          <a:stretch/>
        </p:blipFill>
        <p:spPr>
          <a:xfrm>
            <a:off x="2971800" y="4572000"/>
            <a:ext cx="1285920" cy="12762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http://tbn0.google.com/images?q=tbn:lz-YuQzH2fjbuM:http://www.cricket.org/db/PICTURES/CMS/77100/77132.jpg"/>
          <p:cNvPicPr/>
          <p:nvPr/>
        </p:nvPicPr>
        <p:blipFill>
          <a:blip r:embed="rId7"/>
          <a:stretch/>
        </p:blipFill>
        <p:spPr>
          <a:xfrm>
            <a:off x="7086600" y="4267080"/>
            <a:ext cx="1295280" cy="1832040"/>
          </a:xfrm>
          <a:prstGeom prst="rect">
            <a:avLst/>
          </a:prstGeom>
          <a:ln w="0">
            <a:noFill/>
          </a:ln>
        </p:spPr>
      </p:pic>
      <p:sp>
        <p:nvSpPr>
          <p:cNvPr id="454" name="TextBox 11"/>
          <p:cNvSpPr/>
          <p:nvPr/>
        </p:nvSpPr>
        <p:spPr>
          <a:xfrm>
            <a:off x="1618560" y="365760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n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5" name="TextBox 12"/>
          <p:cNvSpPr/>
          <p:nvPr/>
        </p:nvSpPr>
        <p:spPr>
          <a:xfrm>
            <a:off x="382824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n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657144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n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7" name="TextBox 14"/>
          <p:cNvSpPr/>
          <p:nvPr/>
        </p:nvSpPr>
        <p:spPr>
          <a:xfrm>
            <a:off x="1088280" y="57150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t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8" name="TextBox 15"/>
          <p:cNvSpPr/>
          <p:nvPr/>
        </p:nvSpPr>
        <p:spPr>
          <a:xfrm>
            <a:off x="3913560" y="59436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v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9" name="TextBox 16"/>
          <p:cNvSpPr/>
          <p:nvPr/>
        </p:nvSpPr>
        <p:spPr>
          <a:xfrm>
            <a:off x="7192080" y="6095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smo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Verdana"/>
                <a:ea typeface="Verdana"/>
              </a:rPr>
              <a:t>Read-Aloud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c164"/>
                </a:solidFill>
                <a:latin typeface="Verdana"/>
                <a:ea typeface="Verdana"/>
              </a:rPr>
              <a:t>The Experiment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Student Pages"/>
          <p:cNvPicPr/>
          <p:nvPr/>
        </p:nvPicPr>
        <p:blipFill>
          <a:blip r:embed="rId1"/>
          <a:stretch/>
        </p:blipFill>
        <p:spPr>
          <a:xfrm>
            <a:off x="533520" y="914400"/>
            <a:ext cx="83055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5" descr="Student Pages"/>
          <p:cNvPicPr/>
          <p:nvPr/>
        </p:nvPicPr>
        <p:blipFill>
          <a:blip r:embed="rId1"/>
          <a:stretch/>
        </p:blipFill>
        <p:spPr>
          <a:xfrm>
            <a:off x="609480" y="838080"/>
            <a:ext cx="83059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3059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he are a plant dotcor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He is a plant doctor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i am knot too good with plants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I am not too good with plants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are some forms of the verb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</a:rPr>
              <a:t>to b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se verbs don’t show action.  What do they show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Verdana"/>
              </a:rPr>
              <a:t>They show what someone or something is or w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Minute Men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we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hero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y grandfather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i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 good storytell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aura Ingalls Wilder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wa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 pioneer. S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wa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lso a wri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joking  -   dri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do you know about reading these word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oth has a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base word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, an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ending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a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spelling chang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are the endings?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are the spelling chang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you’ll learn about the endings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–er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nd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–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aking Connec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You heard about two children who decided to be scientists.  Tomorrow you will hear about Abby and Joey agai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16765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st places and tools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or research.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Fri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143000" y="2666880"/>
          <a:ext cx="7543800" cy="32133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his week we read about one illustrator, two toymakers, and three scientists. Where did their creative ideas come from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omparative Ending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igh-Frequency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erbs:  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6160" y="6858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066680" y="2362320"/>
          <a:ext cx="3200400" cy="30477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30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leg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gricultur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borator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greenhous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4648320" y="1828800"/>
          <a:ext cx="3581280" cy="461484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roces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esearc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pportunit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ccomplis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rigin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cienti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unusu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838080" y="1828800"/>
          <a:ext cx="2514600" cy="35812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3657600" y="1523880"/>
          <a:ext cx="5334120" cy="46148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42640" y="2101680"/>
            <a:ext cx="80010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apple tastes sweeter and juicier than the oth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apple tastes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swee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juic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oth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ate the largest piece of meat because I was hungrier than usua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ate the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larg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piece of meat because I was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hungr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usua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at is the tiniest, prettiest ring I have ever se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at is the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tini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pretti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ring I have ever se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trees look lovelier in summer when their leaves are green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trees look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lovel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n summer when their leaves are </a:t>
            </a:r>
            <a:r>
              <a:rPr b="0" lang="en-US" sz="3200" spc="-1" strike="noStrike">
                <a:solidFill>
                  <a:srgbClr val="92d050"/>
                </a:solidFill>
                <a:latin typeface="Verdana"/>
              </a:rPr>
              <a:t>green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3124080" y="167652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lothe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nl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ne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augh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neighbo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High-Frequency Words</a:t>
            </a:r>
            <a:br>
              <a:rPr sz="44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only, money,</a:t>
            </a:r>
            <a:br>
              <a:rPr sz="16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neighbor, hours, clothes, taught, question</a:t>
            </a:r>
            <a:endParaRPr b="0" lang="en-US" sz="1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ow many more ___ will we drive before we get there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hou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did extra chores so I could earn some 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mone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funnier   -    funni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base word in these words is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funny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  What spelling changes do you see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 blend these words, read one chunk, or syllable, at a time and then blend the chunks together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fun, ni, er, funnier; fun, ni, est, funn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High-Frequency Words</a:t>
            </a:r>
            <a:br>
              <a:rPr sz="44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only, money,</a:t>
            </a:r>
            <a:br>
              <a:rPr sz="16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neighbor, hours, clothes, taught, question</a:t>
            </a:r>
            <a:endParaRPr b="0" lang="en-US" sz="1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y old ____ are too small, so I will have to get new on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cloth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y next door ____ lets me play with her do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neighb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High-Frequency Words</a:t>
            </a:r>
            <a:br>
              <a:rPr sz="44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 only, money,</a:t>
            </a:r>
            <a:br>
              <a:rPr sz="1600"/>
            </a:br>
            <a:r>
              <a:rPr b="1" lang="en-US" sz="1600" spc="-1" strike="noStrike">
                <a:solidFill>
                  <a:srgbClr val="92d050"/>
                </a:solidFill>
                <a:latin typeface="Verdana"/>
              </a:rPr>
              <a:t>neighbor, hours, clothes, taught, question</a:t>
            </a:r>
            <a:endParaRPr b="0" lang="en-US" sz="1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440" y="2101680"/>
            <a:ext cx="84582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an you please repeat the ____ you aske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ques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is your one and _____ chance to get it righ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onl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y dad _____ me how to fly a kit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af5a"/>
                </a:solidFill>
                <a:latin typeface="Verdana"/>
              </a:rPr>
              <a:t>taugh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5335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b5249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the science lab was hoter this weak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The science lab was hotter this week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my plant are the smallest one,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My plant is the smallest one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a3d7a"/>
                </a:solidFill>
                <a:latin typeface="Verdana"/>
                <a:ea typeface="Verdana"/>
              </a:rPr>
              <a:t>Wrap Up Your Week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1066680" y="43513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f5a"/>
                </a:solidFill>
                <a:latin typeface="Verdana"/>
                <a:ea typeface="Verdana"/>
              </a:rPr>
              <a:t>Let’s Talk About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f5a"/>
                </a:solidFill>
                <a:latin typeface="Verdana"/>
                <a:ea typeface="Verdana"/>
              </a:rPr>
              <a:t>Creative Idea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Frida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676520" y="2666880"/>
          <a:ext cx="6095880" cy="39196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9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ite about a process you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erform every day.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2a3d7a"/>
                </a:solidFill>
                <a:latin typeface="Verdana"/>
              </a:rPr>
              <a:t>Related Links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914400" y="2286000"/>
          <a:ext cx="7924680" cy="384660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386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mpound Words Primary Resources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National Geographic Kids Plant Pow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lant Parts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ho Lives Here?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George Washington Carver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raille Games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he Good, Better, Best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rampolini Gam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71600" y="76212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0acc"/>
                </a:solidFill>
                <a:latin typeface="Verdana"/>
                <a:ea typeface="Times New Roman"/>
              </a:rPr>
              <a:t>We are now ready to take our story tests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b5249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Verdana"/>
                <a:ea typeface="Arial"/>
              </a:rPr>
              <a:t>Quiz # 904598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e add –er to words when we compare two thing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My joke is </a:t>
            </a:r>
            <a:r>
              <a:rPr b="0" i="1" lang="en-US" sz="2800" spc="-1" strike="noStrike">
                <a:solidFill>
                  <a:srgbClr val="fac164"/>
                </a:solidFill>
                <a:latin typeface="Verdana"/>
              </a:rPr>
              <a:t>funnier</a:t>
            </a: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 than yours.</a:t>
            </a: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e add –est to words when we compare three thing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Kelly told the </a:t>
            </a:r>
            <a:r>
              <a:rPr b="0" i="1" lang="en-US" sz="2800" spc="-1" strike="noStrike">
                <a:solidFill>
                  <a:srgbClr val="fac164"/>
                </a:solidFill>
                <a:latin typeface="Verdana"/>
              </a:rPr>
              <a:t>funniest</a:t>
            </a: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 joke of all.</a:t>
            </a: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3e68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52480" y="27115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c164"/>
                </a:solidFill>
                <a:latin typeface="Verdana"/>
              </a:rPr>
              <a:t>Small</a:t>
            </a:r>
            <a:r>
              <a:rPr b="1" lang="en-US" sz="54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fac164"/>
                </a:solidFill>
                <a:latin typeface="Verdana"/>
              </a:rPr>
              <a:t>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b0ae6a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hunk the word into parts, the base word and the ending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ee if the base word has a spelling chang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Read the chunks from left to right and then blend all the chunks togeth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90920" y="2057040"/>
            <a:ext cx="6248160" cy="41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slow, slower, slow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big, bigger, bigg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polite, politer, polit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luffy, fluffier, fluff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sunny, sunnier, sunn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long, longer, long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mad, madder, madd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ine, finer, fin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560" y="210168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Verdana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Verdana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7"/>
              </a:rPr>
              <a:t>Spelling City-Vo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8"/>
              </a:rPr>
              <a:t>Spelling City-Amazi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62360" y="210168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Verdana"/>
                <a:ea typeface="Arial"/>
              </a:rPr>
              <a:t>Spelling Words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Verdana"/>
                <a:ea typeface="Arial"/>
              </a:rPr>
              <a:t>High Frequency Word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3"/>
              </a:rPr>
              <a:t>Fill-in-the Blank</a:t>
            </a: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4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ea typeface="Arial"/>
                <a:hlinkClick r:id="rId15"/>
              </a:rPr>
              <a:t>Spelling Cit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066680" y="2101680"/>
          <a:ext cx="7772400" cy="39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Base Wor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2 things) -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(3 things)  -e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y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r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trong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ill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dri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st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ot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rar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oveli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igg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rav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funni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add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am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ealthi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fat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a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unni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af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scari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38080" y="1828800"/>
          <a:ext cx="2514600" cy="35812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657600" y="1523880"/>
          <a:ext cx="5334120" cy="46148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bead</a:t>
            </a:r>
            <a:br>
              <a:rPr sz="4000"/>
            </a:br>
            <a:r>
              <a:rPr b="0" lang="en-US" sz="1400" spc="-1" strike="noStrike" u="sng">
                <a:solidFill>
                  <a:srgbClr val="b0ae6a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38080" y="2362320"/>
          <a:ext cx="7772400" cy="18158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Consonant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Digraph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en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a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r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a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p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a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6160" y="6858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2362320"/>
          <a:ext cx="3200400" cy="304776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30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leg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gricultur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borator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greenhous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648320" y="1828800"/>
          <a:ext cx="3581280" cy="461484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roces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esearc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pportunit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ccomplis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rigin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cienti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unusua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bead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76" name="Picture 2" descr="http://tbn0.google.com/images?q=tbn:cY0U7Js_2GInPM:http://lowe.lib.wv.us/read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5146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://tbn0.google.com/images?q=tbn:8f5w7XTNvHNIrM:http://picture-book.com/files/userimages/264u/gu_thkrthnwtr_plea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23623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1924200" y="5257800"/>
            <a:ext cx="91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rea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5965920" y="533412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plea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cold 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838080" y="1752480"/>
          <a:ext cx="7677360" cy="4449960"/>
        </p:xfrm>
        <a:graphic>
          <a:graphicData uri="http://schemas.openxmlformats.org/drawingml/2006/table">
            <a:tbl>
              <a:tblPr/>
              <a:tblGrid>
                <a:gridCol w="2559240"/>
                <a:gridCol w="2558880"/>
                <a:gridCol w="2559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Consonant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Digraph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en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9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f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g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h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m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s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sc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– cold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83" name="Picture 2" descr="http://tbn3.google.com/images?q=tbn:xKGXyxJkKShpJM:http://www.mojoprint.jp/images/folds/cross-fol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2096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tbn0.google.com/images?q=tbn:hmlIpYP-qEvkeM:http://www.usagold.com/images/gold-coins-images.jpe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2209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http://tbn0.google.com/images?q=tbn:mG5QjkTKMM-95M:http://farm3.static.flickr.com/2060/1865482908_20b890274b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62440" y="2438280"/>
            <a:ext cx="1822680" cy="1219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http://tbn3.google.com/images?q=tbn:4ub7I20NerYPfM:http://kingsteamrestoration.com/images/mold12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10280" y="2438280"/>
            <a:ext cx="1633680" cy="1228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http://tbn3.google.com/images?q=tbn:AJEDJ2xfRB8q9M:http://www.socketsite.com/archives/39%2520Chattanooga%2520Sold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143000" y="4495680"/>
            <a:ext cx="1920960" cy="1447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http://tbn3.google.com/images?q=tbn:WQ2LW_lr2Z3zoM:http://internetrealestatesuccess.com/wp-content/uploads/2009/01/momscolding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114800" y="4648320"/>
            <a:ext cx="1676520" cy="1157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http://tbn1.google.com/images?q=tbn:f8mJeuPdPfQpmM:http://www.und.ac.za/und/ling/camese_scold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0" y="4419720"/>
            <a:ext cx="1447920" cy="15206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9"/>
          <p:cNvSpPr/>
          <p:nvPr/>
        </p:nvSpPr>
        <p:spPr>
          <a:xfrm>
            <a:off x="1306080" y="373392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f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3211920" y="3809880"/>
            <a:ext cx="8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g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TextBox 11"/>
          <p:cNvSpPr/>
          <p:nvPr/>
        </p:nvSpPr>
        <p:spPr>
          <a:xfrm>
            <a:off x="5269680" y="36576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h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TextBox 12"/>
          <p:cNvSpPr/>
          <p:nvPr/>
        </p:nvSpPr>
        <p:spPr>
          <a:xfrm>
            <a:off x="7407720" y="365760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m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1769040" y="594360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s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TextBox 14"/>
          <p:cNvSpPr/>
          <p:nvPr/>
        </p:nvSpPr>
        <p:spPr>
          <a:xfrm>
            <a:off x="4434480" y="579132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t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TextBox 15"/>
          <p:cNvSpPr/>
          <p:nvPr/>
        </p:nvSpPr>
        <p:spPr>
          <a:xfrm>
            <a:off x="7033680" y="594360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sco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60acc"/>
                </a:solidFill>
                <a:latin typeface="Verdana"/>
              </a:rPr>
              <a:t>Let’s Talk about Creative Ideas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Student Pages"/>
          <p:cNvPicPr/>
          <p:nvPr/>
        </p:nvPicPr>
        <p:blipFill>
          <a:blip r:embed="rId1"/>
          <a:stretch/>
        </p:blipFill>
        <p:spPr>
          <a:xfrm>
            <a:off x="685800" y="838080"/>
            <a:ext cx="830592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ause and Effec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ost things happen for a reaso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Good readers ask themselves 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what happen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why it happe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Paying attention to why things happen helps you understand what you re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Verdana"/>
                <a:ea typeface="Verdana"/>
              </a:rPr>
              <a:t>Read-Aloud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c164"/>
                </a:solidFill>
                <a:latin typeface="Verdana"/>
                <a:ea typeface="Verdana"/>
              </a:rPr>
              <a:t>Louis  Braill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he am the hapiest dog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He is the happiest dog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where is their a place too sit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Where is there a place to sit?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verb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can tell what someone or something is do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 verb can show something that happens now, in the past, or in the futu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am, is, are, wa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, and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we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o not show action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y show what someone or something is or was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se verbs are forms of the verb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to b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124080" y="167652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lothe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nl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ne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augh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neighbo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am, is, 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and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 are, 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tell about now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am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 invent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Jen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i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 invent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Des and Ali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a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nvento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The verbs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was 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and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 were, 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tell about the pas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ill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wa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 invent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Katie and Sam </a:t>
            </a:r>
            <a:r>
              <a:rPr b="1" lang="en-US" sz="3200" spc="-1" strike="noStrike">
                <a:solidFill>
                  <a:srgbClr val="460acc"/>
                </a:solidFill>
                <a:latin typeface="Verdana"/>
              </a:rPr>
              <a:t>we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nvento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Use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am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,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is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, and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was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 to tell about one person, place or th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Use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are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1" lang="en-US" sz="3600" spc="-1" strike="noStrike">
                <a:solidFill>
                  <a:srgbClr val="460acc"/>
                </a:solidFill>
                <a:latin typeface="Verdana"/>
              </a:rPr>
              <a:t>were</a:t>
            </a:r>
            <a:r>
              <a:rPr b="0" lang="en-US" sz="3600" spc="-1" strike="noStrike">
                <a:solidFill>
                  <a:srgbClr val="5b5249"/>
                </a:solidFill>
                <a:latin typeface="Verdana"/>
              </a:rPr>
              <a:t> to tell about more than one person, place, or th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nventors ____ clever people. (is, a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ac164"/>
                </a:solidFill>
                <a:latin typeface="Verdana"/>
              </a:rPr>
              <a:t>a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Zippers ____ invented not long ago. (was, we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ac164"/>
                </a:solidFill>
                <a:latin typeface="Verdana"/>
              </a:rPr>
              <a:t>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inventions ____ everywhere. (is, ar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ac164"/>
                </a:solidFill>
                <a:latin typeface="Verdana"/>
              </a:rPr>
              <a:t>a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erbs: am, is, are, was, we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68680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____ in the Young Inventors Club. (am, a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ac164"/>
                </a:solidFill>
                <a:latin typeface="Verdana"/>
              </a:rPr>
              <a:t>a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George _____ in the club too. (are, is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ac164"/>
                </a:solidFill>
                <a:latin typeface="Verdana"/>
              </a:rPr>
              <a:t>i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omparative words with –er, 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ause and effe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et’s talk about it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morrow the class will read about George Washington Carver, a man who found the need to solve problems in creative w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523880" y="259092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ist things you excel in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at home and school.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8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2a3d7a"/>
                </a:solidFill>
                <a:latin typeface="Verdana"/>
              </a:rPr>
              <a:t>Tuesday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523880" y="2133720"/>
          <a:ext cx="7162920" cy="4286160"/>
        </p:xfrm>
        <a:graphic>
          <a:graphicData uri="http://schemas.openxmlformats.org/drawingml/2006/table">
            <a:tbl>
              <a:tblPr/>
              <a:tblGrid>
                <a:gridCol w="7162920"/>
              </a:tblGrid>
              <a:tr h="428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meone may have an idea for something to make our lives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tter and happier.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w can the smallest idea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come a great idea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1" lang="en-US" sz="48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2a3d7a"/>
                </a:solidFill>
                <a:latin typeface="Verdana"/>
              </a:rPr>
              <a:t>Tuesday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3880" y="2133720"/>
          <a:ext cx="7162920" cy="4286160"/>
        </p:xfrm>
        <a:graphic>
          <a:graphicData uri="http://schemas.openxmlformats.org/drawingml/2006/table">
            <a:tbl>
              <a:tblPr/>
              <a:tblGrid>
                <a:gridCol w="7162920"/>
              </a:tblGrid>
              <a:tr h="428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Someone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may have an idea for </a:t>
                      </a:r>
                      <a:r>
                        <a:rPr b="1" i="1" lang="en-US" sz="32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something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to make our lives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tter and happier.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w can the smallest idea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come a great idea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omparative ending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Cause and effe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onitor and fix-up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igh-frequency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Verbs: am, is, are, was,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1828800"/>
          <a:ext cx="2514600" cy="35812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657600" y="1523880"/>
          <a:ext cx="5334120" cy="46148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82320" y="1028520"/>
            <a:ext cx="734076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  <a:ea typeface="Times New Roman"/>
              </a:rPr>
              <a:t>A Weed Is a Flo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5b5249"/>
                          </a:solidFill>
                          <a:latin typeface="Verdana"/>
                          <a:ea typeface="Times New Roman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opportunit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op – por – tu - ni – ty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pportunit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is a good chance or a favorable tim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We had a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pportunit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to go to a movie on Saturd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Will we have a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pportunit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to have a play date this week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accomplish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c – com - plish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en you </a:t>
            </a:r>
            <a:r>
              <a:rPr b="1" lang="en-US" sz="2800" spc="-1" strike="noStrike">
                <a:solidFill>
                  <a:srgbClr val="2ebe35"/>
                </a:solidFill>
                <a:latin typeface="Verdana"/>
                <a:ea typeface="Times New Roman"/>
              </a:rPr>
              <a:t>accomplis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something, you succeed in carrying it out or finishing i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mayor of our town </a:t>
            </a:r>
            <a:r>
              <a:rPr b="1" lang="en-US" sz="2800" spc="-1" strike="noStrike">
                <a:solidFill>
                  <a:srgbClr val="2ebe35"/>
                </a:solidFill>
                <a:latin typeface="Verdana"/>
                <a:ea typeface="Times New Roman"/>
              </a:rPr>
              <a:t>accomplished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many important thing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he was proud she </a:t>
            </a:r>
            <a:r>
              <a:rPr b="1" lang="en-US" sz="2800" spc="-1" strike="noStrike">
                <a:solidFill>
                  <a:srgbClr val="2ebe35"/>
                </a:solidFill>
                <a:latin typeface="Verdana"/>
                <a:ea typeface="Times New Roman"/>
              </a:rPr>
              <a:t>accomplished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so much in only an hou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Verdana"/>
                <a:ea typeface="Times New Roman"/>
              </a:rPr>
              <a:t>origin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o – rig - i – n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omething that is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rigina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is the only one of its kind or the first of someth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We use my grandmother’s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rigina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recipe for those delicious cooki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copy machine makes copies of an </a:t>
            </a:r>
            <a:r>
              <a:rPr b="1" lang="en-US" sz="3200" spc="-1" strike="noStrike">
                <a:solidFill>
                  <a:srgbClr val="2ebe35"/>
                </a:solidFill>
                <a:latin typeface="Verdana"/>
                <a:ea typeface="Times New Roman"/>
              </a:rPr>
              <a:t>origina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paper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Verdana"/>
                <a:ea typeface="Verdana"/>
              </a:rPr>
              <a:t>Read-Aloud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c164"/>
                </a:solidFill>
                <a:latin typeface="Verdana"/>
                <a:ea typeface="Verdana"/>
              </a:rPr>
              <a:t>Teddy’s Bear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redd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You can read this word because you know how to read words with endings –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–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at base word and ending form redd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en you come to a word with an –er or –est ending, figure out the base word (remember that there may have been a spelling change), read the word parts from left to right, and then blend the parts together to read the wor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in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in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hott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hott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unnier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unn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blu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blu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lucki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lucki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quick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quick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latt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flatt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larger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larg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3200400" cy="28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Verdana"/>
                <a:ea typeface="Verdana"/>
              </a:rPr>
              <a:t>Click to listen to “The Latest Ideas.”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47" name="Picture 1" descr="Phonics Songs and Rhymes Chart 15"/>
          <p:cNvPicPr/>
          <p:nvPr/>
        </p:nvPicPr>
        <p:blipFill>
          <a:blip r:embed="rId1"/>
          <a:srcRect l="0" t="0" r="3564" b="12217"/>
          <a:stretch/>
        </p:blipFill>
        <p:spPr>
          <a:xfrm>
            <a:off x="4267080" y="914400"/>
            <a:ext cx="4114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Find the words with comparative endings in “The Latest Idea.”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123720" y="2514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a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hot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usi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bigg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fi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pretti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38512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Big Question:</a:t>
            </a:r>
            <a:r>
              <a:rPr b="0" lang="en-US" sz="40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2a3d7a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2a3d7a"/>
                </a:solidFill>
                <a:latin typeface="Verdana"/>
              </a:rPr>
              <a:t>Where do creative ideas come from?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3276720"/>
            <a:ext cx="63309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igg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igg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r>
              <a:rPr b="1" i="1" lang="en-US" sz="2000" spc="-1" strike="noStrike">
                <a:solidFill>
                  <a:srgbClr val="2a3d7a"/>
                </a:solidFill>
                <a:latin typeface="Verdana"/>
              </a:rPr>
              <a:t> Sort these words:  latest, hottest, busiest, bigger, finer, prettier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057400" y="2286000"/>
          <a:ext cx="594360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-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igg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fin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prett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la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85800" y="1981080"/>
          <a:ext cx="2514600" cy="358164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ea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o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a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wrote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505320" y="1600200"/>
          <a:ext cx="5410080" cy="4614840"/>
        </p:xfrm>
        <a:graphic>
          <a:graphicData uri="http://schemas.openxmlformats.org/drawingml/2006/table">
            <a:tbl>
              <a:tblPr/>
              <a:tblGrid>
                <a:gridCol w="541008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r        small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soonest       small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r         fat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ttest        fat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r         angri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busiest 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angri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r 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appiest      </a:t>
                      </a: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straightes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- room 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914400" y="2362320"/>
          <a:ext cx="7620120" cy="313344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Consonant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Digraph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en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d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9ddf1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460acc"/>
                          </a:solidFill>
                          <a:latin typeface="Verdana"/>
                        </a:rPr>
                        <a:t>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br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gl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62b02"/>
                          </a:solidFill>
                          <a:latin typeface="Verdana"/>
                        </a:rPr>
                        <a:t>gr</a:t>
                      </a:r>
                      <a:r>
                        <a:rPr b="1" lang="en-US" sz="36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Word Family Rhymes - room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70" name="Picture 2" descr="http://tbn3.google.com/images?q=tbn:A2ZXfz5VApBp3M:http://www.virtualmuseum.ca/Exhibitions/ManitobaCrafts/storyofwool/images/artifacts/loo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133720"/>
            <a:ext cx="2062440" cy="1904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http://tbn1.google.com/images?q=tbn:z0KtR3eZXUhJ1M:http://www.gatewaytosedona.com/image/articles/1687/Flower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91120" y="2362320"/>
            <a:ext cx="1993680" cy="1371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http://tbn3.google.com/images?q=tbn:e9LHInwfVUuUpM:http://www.tascoenterprises.com/photos/YardCornBroom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10280" y="2209680"/>
            <a:ext cx="1676520" cy="189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http://tbn2.google.com/images?q=tbn:bEMGc8cXx1BrdM:http://i20.photobucket.com/albums/b238/hawk213/gloom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133720" y="4800600"/>
            <a:ext cx="2133360" cy="12794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http://tbn3.google.com/images?q=tbn:Zmtj7SRTabdJYM:http://www.bridalxpress.com/catalog/32318-air-force-cake-topper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43434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7"/>
          <p:cNvSpPr/>
          <p:nvPr/>
        </p:nvSpPr>
        <p:spPr>
          <a:xfrm>
            <a:off x="7409160" y="419112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bro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4589640" y="373392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blo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TextBox 9"/>
          <p:cNvSpPr/>
          <p:nvPr/>
        </p:nvSpPr>
        <p:spPr>
          <a:xfrm>
            <a:off x="1767960" y="403848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lo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TextBox 10"/>
          <p:cNvSpPr/>
          <p:nvPr/>
        </p:nvSpPr>
        <p:spPr>
          <a:xfrm>
            <a:off x="2684520" y="60958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glo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TextBox 11"/>
          <p:cNvSpPr/>
          <p:nvPr/>
        </p:nvSpPr>
        <p:spPr>
          <a:xfrm>
            <a:off x="5351760" y="6027840"/>
            <a:ext cx="12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Verdana"/>
                <a:ea typeface="Verdana"/>
              </a:rPr>
              <a:t>gro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0" lang="en-US" sz="40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057400" y="259092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reative people discover many new things. Where do they get their ideas? Where do creative ideas come from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hotter than the hottest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sooner we get to the park, the happier I will be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e get to the park,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app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 will be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e get to the park,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app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 will be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is the busiest work day, so the soonest Mom can come home is sev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360" y="2101680"/>
            <a:ext cx="78483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e get to the park,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app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 will be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is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busi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ork day, so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Mom can come home is sev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ur new puppy is the smallest and fattest of them all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Comparative Endings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360" y="2101680"/>
            <a:ext cx="78483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oday feels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than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o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day we ever h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e get to the park,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happi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I will be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is is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busi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work day, so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oon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Mom can come home is sev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ur new puppy is the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small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2ebe35"/>
                </a:solidFill>
                <a:latin typeface="Verdana"/>
              </a:rPr>
              <a:t>fattest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of them all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Cause and Effec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Most things happen for a reaso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Good readers ask themselves 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what happens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why it happe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Look for clue words that signal causes, such as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 so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nd</a:t>
            </a:r>
            <a:r>
              <a:rPr b="1" i="1" lang="en-US" sz="3200" spc="-1" strike="noStrike">
                <a:solidFill>
                  <a:srgbClr val="5b5249"/>
                </a:solidFill>
                <a:latin typeface="Verdana"/>
              </a:rPr>
              <a:t> becaus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Monitor and Fix Up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hen you don’t understand something that happens in a story, it is a good idea to stop reading and look quickly over what they have already read to clear up any confusion about the stor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Monitor and Fix Up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Ask yourself questions as you read </a:t>
            </a:r>
            <a:r>
              <a:rPr b="0" lang="en-US" sz="3200" spc="-1" strike="noStrike" u="sng">
                <a:solidFill>
                  <a:srgbClr val="5b5249"/>
                </a:solidFill>
                <a:uFillTx/>
                <a:latin typeface="Verdana"/>
              </a:rPr>
              <a:t>A Weed Is a Flower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Do I make sure I understand as I read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Verdana"/>
              </a:rPr>
              <a:t>Do I go back and look quickly for information I don’t know or understan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r>
              <a:rPr b="0" lang="en-US" sz="4000" spc="-1" strike="noStrike">
                <a:solidFill>
                  <a:srgbClr val="2a3d7a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2a3d7a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57400" y="259092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reative people discover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many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new things. Where do they get </a:t>
                      </a:r>
                      <a:r>
                        <a:rPr b="1" i="1" lang="en-US" sz="3200" spc="-1" strike="noStrike">
                          <a:solidFill>
                            <a:srgbClr val="2ebe35"/>
                          </a:solidFill>
                          <a:latin typeface="Verdana"/>
                        </a:rPr>
                        <a:t>their</a:t>
                      </a:r>
                      <a:r>
                        <a:rPr b="1" i="1" lang="en-US" sz="32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ideas? Where do creative ideas come from?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6160" y="7617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A Weed Is a Flower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124080" y="167652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ac164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clothe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onl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mone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taught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Verdana"/>
                        </a:rPr>
                        <a:t>neighbo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High Frequency</a:t>
            </a:r>
            <a:br>
              <a:rPr sz="4000"/>
            </a:b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 Word Review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5640" y="210168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onl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answ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cloth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schoo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hou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peop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augh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thei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ques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paren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money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wash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neighb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Verdana"/>
              </a:rPr>
              <a:t>enoug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colleg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– a school of learning to attend after high schoo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2" action="ppaction://hlinksldjump"/>
              </a:rPr>
              <a:t>agriculture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– having to do with farm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3" action="ppaction://hlinksldjump"/>
              </a:rPr>
              <a:t>laboratory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– a place where tests and experiments are do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4" action="ppaction://hlinksldjump"/>
              </a:rPr>
              <a:t> 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5" action="ppaction://hlinksldjump"/>
              </a:rPr>
              <a:t>greenhouse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Verdana"/>
                <a:hlinkClick r:id="rId6" action="ppaction://hlinksldjump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– a building with glass or plastic sides where plants are kept war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Verdana"/>
                <a:hlinkClick r:id="rId7" action="ppaction://hlinksldjump"/>
              </a:rPr>
              <a:t>Next sli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colleg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08" name="Picture 4" descr="http://tbn3.google.com/images?q=tbn:faeben_ekGEIcM:http://image04.webshots.com/4/0/28/62/57302862krmJSq_f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198108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tbn0.google.com/images?q=tbn:Ri3QJtsMt7j7vM:http://www.schooldesigns.com/catalog/images/608asu202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38680" y="1981080"/>
            <a:ext cx="2289240" cy="16765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ttp://tbn1.google.com/images?q=tbn:8gaNhJH0z90gqM:http://www.stateuniversity.com/assets/logo/image/596/large/health_sciences_complex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429000" y="4572000"/>
            <a:ext cx="2666880" cy="1600200"/>
          </a:xfrm>
          <a:prstGeom prst="rect">
            <a:avLst/>
          </a:prstGeom>
          <a:ln w="0">
            <a:noFill/>
          </a:ln>
        </p:spPr>
      </p:pic>
      <p:sp>
        <p:nvSpPr>
          <p:cNvPr id="311" name="TextBox 6"/>
          <p:cNvSpPr/>
          <p:nvPr/>
        </p:nvSpPr>
        <p:spPr>
          <a:xfrm>
            <a:off x="1692000" y="3657600"/>
            <a:ext cx="22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Arial Narrow"/>
              </a:rPr>
              <a:t>Auburn Universit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TextBox 7"/>
          <p:cNvSpPr/>
          <p:nvPr/>
        </p:nvSpPr>
        <p:spPr>
          <a:xfrm>
            <a:off x="5421960" y="365760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Narrow"/>
              </a:rPr>
              <a:t>University of Alabam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TextBox 8"/>
          <p:cNvSpPr/>
          <p:nvPr/>
        </p:nvSpPr>
        <p:spPr>
          <a:xfrm>
            <a:off x="2463840" y="601992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Arial Narrow"/>
              </a:rPr>
              <a:t>Northeast Alabama Community Colleg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agricul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15" name="Picture 2" descr="http://tbn3.google.com/images?q=tbn:yxY7EiDUHjTP5M:http://www.state.sd.us/DOA/images/SD-Harves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47920" y="2209680"/>
            <a:ext cx="2666880" cy="1812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http://tbn3.google.com/images?q=tbn:LVsjQsz277ksVM:http://thelivingmurray.mdbc.gov.au/__data/page/1328/JB_agriculture_berri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00880" y="22096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http://tbn0.google.com/images?q=tbn:af_sEwWuxilHaM:http://www.agworkers.com/images/agricultur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19520" y="4495680"/>
            <a:ext cx="38098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labora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19" name="Picture 2" descr="http://tbn1.google.com/images?q=tbn:ZWjNIq-Qc_R1LM:http://www.ucm.es/info/gsolfa/imagenes/orellana_Organic_and_Inorganic_Synthesis_Laboratory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2362320"/>
            <a:ext cx="2022480" cy="1523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http://tbn3.google.com/images?q=tbn:TRuTsaF8LWRTsM:http://www.bmvbs.de/Bild/original_971849/Research-in-a-genetic-engineering-laboratory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57600" y="2362320"/>
            <a:ext cx="1981080" cy="1466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http://tbn0.google.com/images?q=tbn:41q8Ru8mOwyKNM:http://corrosion.ksc.nasa.gov/images/KSC-Corrosion-Laboratory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76720" y="4038480"/>
            <a:ext cx="2971800" cy="2540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http://tbn1.google.com/images?q=tbn:sEQpZ01fKtn_pM:http://202.38.70.95/ocw/NR/rdonlyres/Mechanical-Engineering/2-672Spring2004/30BE4FB9-BC8A-47D8-92D7-83E7DBCCF352/0/chp_pipe_clear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48520" y="2362320"/>
            <a:ext cx="1733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r>
              <a:rPr b="0" lang="en-US" sz="4400" spc="-1" strike="noStrike" u="sng">
                <a:solidFill>
                  <a:srgbClr val="b0ae6a"/>
                </a:solidFill>
                <a:uFillTx/>
                <a:latin typeface="Verdana"/>
                <a:hlinkClick r:id="rId1" action="ppaction://hlinksldjump"/>
              </a:rPr>
              <a:t>greenhouse</a:t>
            </a:r>
            <a:r>
              <a:rPr b="0" lang="en-US" sz="4400" spc="-1" strike="noStrike">
                <a:solidFill>
                  <a:srgbClr val="2a3d7a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24" name="Picture 2" descr="http://tbn2.google.com/images?q=tbn:JoAWa3-YkRDfYM:http://worldwatts.com/gael/greenhouse_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22860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http://tbn0.google.com/images?q=tbn:Qn8sM5wIURyiWM:http://newfarm.osu.edu/crops/images/greenhous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62520" y="2286000"/>
            <a:ext cx="1447560" cy="1801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http://tbn3.google.com/images?q=tbn:_tnv-Lkuo4kKhM:http://www.solar-components.com/conservatory_greenhouse_big.jpe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5880" y="24382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http://tbn3.google.com/images?q=tbn:zz07K5I39nKRUM:http://www.solar-components.com/oasis_greenhouse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05120" y="4572000"/>
            <a:ext cx="1695240" cy="1600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http://tbn2.google.com/images?q=tbn:rfVSBamjsizlfM:https://www2.lsmsecure.com/itd/shop/images/T/HydroGreenhouse2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943600" y="4495680"/>
            <a:ext cx="1563840" cy="15242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http://tbn0.google.com/images?q=tbn:Y9k4EoVgGcXGbM:http://www.niagarafrontier.com/image/greenhouse2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038480" y="4343400"/>
            <a:ext cx="13716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college, agriculture, laboratory, greenhous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We grow plants in the _____ when it is cold outsid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greenhous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I want to study _____ when I grow up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agricultu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2a3d7a"/>
                </a:solidFill>
                <a:latin typeface="Verdana"/>
              </a:rPr>
              <a:t>college, agriculture, laboratory, greenhous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One day I will go to ____ to learn more about plan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colleg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There I will study seeds and plants in a 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ac164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38088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it are smallest than that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It is smaller than that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Verdana"/>
              </a:rPr>
              <a:t>plants that row of seeds straighterer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Verdana"/>
              </a:rPr>
              <a:t>Plant that row of  seeds straighter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1-12-08T16:19:12Z</dcterms:modified>
  <cp:revision>51</cp:revision>
  <dc:subject/>
  <dc:title>Slide 1</dc:title>
</cp:coreProperties>
</file>